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8F2A-7BF0-47DC-A45D-BC56380DE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3035-E730-4716-8E2E-D6511FC81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295-05C9-418C-BA06-EB509DF4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72D-D4E7-4908-BE63-9370DC1E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E23B-4A87-4C9E-88EE-29A50800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8B1-A8C4-43B4-8F7F-75C1F0B6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BF1A-A7E3-4916-9EB6-64E29831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B045-1E3B-4F5B-B65E-96AD3036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92B8-6D51-4B15-936F-0E3EFAB1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AE3B-2013-4C5B-B5C4-9AB92009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7F47-ADDD-4C88-B609-C46ECDE9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FFB7-25AD-4397-BCB4-E5B0A789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F22E-1FAC-4D28-B972-C0824C3D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4A7-48CF-44FE-AF54-0FBE94FC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D611-7F24-4E2E-ABBD-AE43B361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3980-2878-4F68-9914-63D6FFFC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8B99-E58A-405B-8CD6-45875CF1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70D0-ACB2-44CD-B8B4-3CE72975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339C-F190-4982-B886-A09973FC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CC5CA-1105-4329-B2DE-EDD758DC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D6CE2-32B0-4DB0-B3D0-5840120B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73942-7917-46FB-B935-3534513F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86AC0-9265-49D7-9BD8-0D4267F6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8AF4B-2FAE-428C-9C23-E66462ED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CF3C-4389-478F-818B-FF95A377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306D5-90B6-4A3F-8377-F562BCF0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238FA-A524-439B-B073-BF1DA084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A6389-B324-43CD-8E91-113CAA33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7954C-6AC9-4DF8-8191-6D2DAA97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BE7E0-730F-41AF-BAA1-4E8FE229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9B8B2-F340-4A4C-8241-97BE824C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D1C00-ED08-448B-A116-AF6701F1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9EC9E-9097-43D9-AAA3-67D42FAE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6E21C-6D22-4317-AFD0-8D0995F5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CBDAA-9BFF-4C2F-BC78-D18A9B00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032F-F1B2-4263-B825-24DE7A9E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FADF1-93ED-439B-96C5-DE384502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BF015-E0FF-48D7-A1E9-6E350221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D7469-5061-441B-ABF0-BCFE1EC0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E8A05-FBEB-4843-A828-8E890345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A5F69-7CBC-4519-9860-27546247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58ACF-6E02-453D-BEFC-D80BD112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DDD0D-7B46-4FF7-9C27-EF6581A9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EF7A7-A79B-480A-9A30-F5BA3996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3195A-A8BB-4036-BAE3-B57556B3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B44-9A14-4231-AB1B-EA17051D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520-38EB-4816-942F-EAF68C7F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41F-0A8A-4F1E-866B-65F0CB85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B84E-CCBC-40E3-A481-5D0CFC5A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267-DE97-4C8E-B074-29B82F1D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AC0E-1BC0-44B2-8A7D-9BC8564F404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EE0A-839C-4810-AC42-03AA2CCEA4D3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6D71-7624-41E3-AE4B-DB6F0803F60E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2F5F-2F2B-4F8D-843E-D9D37933A499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fredericton.ca/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nasismiddle.nbed.nb.ca/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nasismiddle.nbed.nb.ca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hyperlink" Target="http://nasismiddle.nbed.nb.ca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hyperlink" Target="http://nasismiddle.nbed.nb.ca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lummer.wikispaces.com/" TargetMode="External"/><Relationship Id="rId2" Type="http://schemas.openxmlformats.org/officeDocument/2006/relationships/hyperlink" Target="http://www.votemiller2008.wikispaces.com/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nasismiddle.nbed.nb.ca/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veritlive.com/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52840" y="1101240"/>
            <a:ext cx="338292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Trebuchet MS"/>
              </a:rPr>
              <a:t>Soccer Moms &amp; Hockey Dad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52840" y="2011320"/>
            <a:ext cx="33829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Leveraging Technology to Communicate with Parents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Content Placeholder 6" descr="soccer mom.jpg"/>
          <p:cNvPicPr/>
          <p:nvPr/>
        </p:nvPicPr>
        <p:blipFill>
          <a:blip r:embed="rId1"/>
          <a:stretch/>
        </p:blipFill>
        <p:spPr>
          <a:xfrm>
            <a:off x="609480" y="914400"/>
            <a:ext cx="3056040" cy="3056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Hockey dad.jpg"/>
          <p:cNvPicPr/>
          <p:nvPr/>
        </p:nvPicPr>
        <p:blipFill>
          <a:blip r:embed="rId2"/>
          <a:stretch/>
        </p:blipFill>
        <p:spPr>
          <a:xfrm>
            <a:off x="5257800" y="3581280"/>
            <a:ext cx="2933640" cy="2934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dn fla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01000" y="533520"/>
            <a:ext cx="981000" cy="493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nm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5410080"/>
            <a:ext cx="1452600" cy="10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veloping a strong relationship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formation gathering- phone #’s, e-mails, et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formation sharing- homework blogs, wiki’s, progress reports, et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“First Impression” is import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steps will make the “in-person” introduction much easie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 surprises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3" descr="Cdn flag.jpg"/>
          <p:cNvPicPr/>
          <p:nvPr/>
        </p:nvPicPr>
        <p:blipFill>
          <a:blip r:embed="rId1"/>
          <a:stretch/>
        </p:blipFill>
        <p:spPr>
          <a:xfrm>
            <a:off x="7696080" y="685800"/>
            <a:ext cx="1133640" cy="571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nm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5791320"/>
            <a:ext cx="94284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arents are more INVOLVED!!!!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ents know what their kids are do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hool spirit- “Friends of NMS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cess school info from work- NMS blo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the c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the rin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ver dinn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’s all at their fingertips.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 surprises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3" descr="bberry.jpg"/>
          <p:cNvPicPr/>
          <p:nvPr/>
        </p:nvPicPr>
        <p:blipFill>
          <a:blip r:embed="rId1"/>
          <a:stretch/>
        </p:blipFill>
        <p:spPr>
          <a:xfrm>
            <a:off x="6400800" y="3809880"/>
            <a:ext cx="2211480" cy="2752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dn flag.jpg"/>
          <p:cNvPicPr/>
          <p:nvPr/>
        </p:nvPicPr>
        <p:blipFill>
          <a:blip r:embed="rId2"/>
          <a:stretch/>
        </p:blipFill>
        <p:spPr>
          <a:xfrm>
            <a:off x="7772400" y="685800"/>
            <a:ext cx="1133640" cy="571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nm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5943600"/>
            <a:ext cx="9432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arkbook- tracking progres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2209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rking softwa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ganize parental contact inf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are detailed progress reports w/ par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 surprises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3" descr="report cards.jpg"/>
          <p:cNvPicPr/>
          <p:nvPr/>
        </p:nvPicPr>
        <p:blipFill>
          <a:blip r:embed="rId1"/>
          <a:stretch/>
        </p:blipFill>
        <p:spPr>
          <a:xfrm>
            <a:off x="2971800" y="4191120"/>
            <a:ext cx="2743200" cy="2460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dn flag.jpg"/>
          <p:cNvPicPr/>
          <p:nvPr/>
        </p:nvPicPr>
        <p:blipFill>
          <a:blip r:embed="rId2"/>
          <a:stretch/>
        </p:blipFill>
        <p:spPr>
          <a:xfrm>
            <a:off x="7696080" y="685800"/>
            <a:ext cx="1133640" cy="571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nm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5867280"/>
            <a:ext cx="94284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ikispac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sson and unit plan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al access to notes, presentations and assignm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ny subjects, one wik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llness? Vacation? Stay up to date!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ed wiki help? Go to Jeff Whipple’s wiki presentation during the conferenc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Shauna's wikispac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Rob’s wikisp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Picture 3" descr="Cdn flag.jpg"/>
          <p:cNvPicPr/>
          <p:nvPr/>
        </p:nvPicPr>
        <p:blipFill>
          <a:blip r:embed="rId3"/>
          <a:stretch/>
        </p:blipFill>
        <p:spPr>
          <a:xfrm>
            <a:off x="7696080" y="762120"/>
            <a:ext cx="1133640" cy="571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nm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0880" y="5943600"/>
            <a:ext cx="9432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ocial Media…it’s not just for kids!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iends of NMS- growing every year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ents witness student cre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cebook- project creation and shar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witter- share thoughts, ideas and inf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Cover it L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3" descr="Cdn flag.jpg"/>
          <p:cNvPicPr/>
          <p:nvPr/>
        </p:nvPicPr>
        <p:blipFill>
          <a:blip r:embed="rId2"/>
          <a:stretch/>
        </p:blipFill>
        <p:spPr>
          <a:xfrm>
            <a:off x="7772400" y="685800"/>
            <a:ext cx="1133640" cy="571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nms.jpg"/>
          <p:cNvPicPr/>
          <p:nvPr/>
        </p:nvPicPr>
        <p:blipFill>
          <a:blip r:embed="rId3"/>
          <a:stretch/>
        </p:blipFill>
        <p:spPr>
          <a:xfrm>
            <a:off x="380880" y="5638680"/>
            <a:ext cx="9432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52840" y="1318680"/>
            <a:ext cx="33829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52840" y="2011320"/>
            <a:ext cx="33829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51920" y="775800"/>
            <a:ext cx="510228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times even the best laid plans…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52" name="ShockwaveFlash1"/>
          <p:cNvGraphicFramePr/>
          <p:nvPr/>
        </p:nvGraphicFramePr>
        <p:xfrm>
          <a:off x="457200" y="1752480"/>
          <a:ext cx="76183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7618320" cy="5105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ality bites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ime consuming- do it righ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suse of technology- trust and supervi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countability- excuses still exi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 AWARE OF TONE- edit!!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t “courag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e an –mail folder to save ALL parental communic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able to reach everyone- Be confident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6" name="Picture 3" descr="Cdn flag.jpg"/>
          <p:cNvPicPr/>
          <p:nvPr/>
        </p:nvPicPr>
        <p:blipFill>
          <a:blip r:embed="rId1"/>
          <a:stretch/>
        </p:blipFill>
        <p:spPr>
          <a:xfrm>
            <a:off x="7696080" y="685800"/>
            <a:ext cx="1133640" cy="571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nms.jpg"/>
          <p:cNvPicPr/>
          <p:nvPr/>
        </p:nvPicPr>
        <p:blipFill>
          <a:blip r:embed="rId2"/>
          <a:stretch/>
        </p:blipFill>
        <p:spPr>
          <a:xfrm>
            <a:off x="380880" y="5943600"/>
            <a:ext cx="9432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Q &amp; 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w it’s your tur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eel free to ask questions, or join our cha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act inf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auna- shauna.plummer@nbed.nb.c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b- robert.miller@nbed.nb.c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llow Rob on Twitter (miller7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0" name="Picture 3" descr="Cdn flag.jpg"/>
          <p:cNvPicPr/>
          <p:nvPr/>
        </p:nvPicPr>
        <p:blipFill>
          <a:blip r:embed="rId1"/>
          <a:stretch/>
        </p:blipFill>
        <p:spPr>
          <a:xfrm>
            <a:off x="7696080" y="838080"/>
            <a:ext cx="1133640" cy="571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nms.jpg"/>
          <p:cNvPicPr/>
          <p:nvPr/>
        </p:nvPicPr>
        <p:blipFill>
          <a:blip r:embed="rId2"/>
          <a:stretch/>
        </p:blipFill>
        <p:spPr>
          <a:xfrm>
            <a:off x="609480" y="5562720"/>
            <a:ext cx="943200" cy="704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00:14:44Z</dcterms:created>
  <dc:creator>Robert.Miller</dc:creator>
  <dc:description/>
  <dc:language>en-US</dc:language>
  <cp:lastModifiedBy>Robert.Miller</cp:lastModifiedBy>
  <dcterms:modified xsi:type="dcterms:W3CDTF">2009-07-21T14:41:54Z</dcterms:modified>
  <cp:revision>85</cp:revision>
  <dc:subject/>
  <dc:title>Soccer Moms &amp; Hockey Dads</dc:title>
</cp:coreProperties>
</file>